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C19-7788-4446-BAC9-B5237DA0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D22-016A-4C02-B472-C955EADF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2BB-35F2-46BF-823A-25C146C0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B80-C65A-426C-864C-DC69A557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053D-3BD0-4093-B541-F901C50D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A31C-405F-4E81-8B5B-0B5F6279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F576-A8FA-479C-8010-77756F8E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60E5-CAB1-4F3F-B059-F07F8B3C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DE08-2A31-44C5-8416-F62C216F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4204-BBF8-401C-BFCB-3E91C345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D26A-3320-42A8-9F89-FF233AFE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CC4-4E18-4AF4-97AC-9AB19F45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04F9-8290-424B-AF7D-598F5D36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37AA-EBAA-4C6A-977E-99D006E2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5D09-5C17-4B48-83EC-4218EE2F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27D6-AFB2-4F59-8526-FE8617D7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F113-14BF-41D6-8DB2-23146166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EDF-DE8B-42D8-B82A-732665D8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9D66-1B77-4128-9451-6BBC9FF1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7266-A4D0-431C-800A-F13F1973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376-AB04-4D46-B1EB-ED56387B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6CE-2EBB-4D37-AFDC-26D4EEA7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1CD-0712-4BD1-A2B4-119952E1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8334-F9AC-485E-B718-F923919F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DC84-FDD1-4B5D-A3C9-401CD14FEB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0B38-9347-460D-AF1C-DCEC147AB3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eate A Molecul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/Valu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(half of a te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304920" y="-1447920"/>
            <a:ext cx="975384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6000" spc="-1" strike="noStrike">
                <a:solidFill>
                  <a:srgbClr val="b7e7ff"/>
                </a:solidFill>
                <a:latin typeface="Arial"/>
              </a:rPr>
              <a:t>Chem 111</a:t>
            </a:r>
            <a:br>
              <a:rPr sz="6000"/>
            </a:br>
            <a:r>
              <a:rPr b="0" lang="en-US" sz="6000" spc="-1" strike="noStrike">
                <a:solidFill>
                  <a:srgbClr val="b7e7ff"/>
                </a:solidFill>
                <a:latin typeface="Arial"/>
              </a:rPr>
              <a:t>3D Molecule </a:t>
            </a:r>
            <a:br>
              <a:rPr sz="6000"/>
            </a:br>
            <a:r>
              <a:rPr b="0" lang="en-US" sz="6000" spc="-1" strike="noStrike">
                <a:solidFill>
                  <a:srgbClr val="b7e7ff"/>
                </a:solidFill>
                <a:latin typeface="Arial"/>
              </a:rPr>
              <a:t>Project</a:t>
            </a:r>
            <a:br>
              <a:rPr sz="6000"/>
            </a:br>
            <a:r>
              <a:rPr b="0" lang="en-US" sz="6000" spc="-1" strike="noStrike">
                <a:solidFill>
                  <a:srgbClr val="b7e7ff"/>
                </a:solidFill>
                <a:latin typeface="Arial"/>
              </a:rPr>
              <a:t>/ Value -1/2 a test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68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1-Research VSEP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2-Choose one of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following SHAP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rigonal bipyram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Lin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B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rigonal plan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etrahed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Pyramidal(trigona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Linear with 2 lone pairs and 2 bonding pai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470400" y="2516040"/>
            <a:ext cx="4911480" cy="4065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380880"/>
            <a:ext cx="6248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ees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 sha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quare plan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quare pyram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Octahedr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457992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Using creativity and imagination design a 3D model to show your VSEPR shape.  Include both the lone pairs and bonding pairs.(Usually it is helpful to use a molecule as an example).  This molecule must be constructed physically.(Not on the computer) ie: paper mache, pieces of wood et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087800" y="2967120"/>
            <a:ext cx="307512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ease include a sign with your model that has a general formula and thenumber of lone pairs and bonding pairs along with the name of the shap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a brief description explaining how to draw your shape . Please use at least 3 referenc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a separate piece of paper summarize the information about your shape in a small tab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320" y="1676520"/>
          <a:ext cx="8766000" cy="4949640"/>
        </p:xfrm>
        <a:graphic>
          <a:graphicData uri="http://schemas.openxmlformats.org/drawingml/2006/table">
            <a:tbl>
              <a:tblPr/>
              <a:tblGrid>
                <a:gridCol w="1523880"/>
                <a:gridCol w="1547640"/>
                <a:gridCol w="1424160"/>
                <a:gridCol w="1424160"/>
                <a:gridCol w="1422360"/>
                <a:gridCol w="1423800"/>
              </a:tblGrid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lec-ular formu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wis electron dot dia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of lone pai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of bond-ing pai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 of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ar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 struct-ural dia--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7:36:51Z</dcterms:created>
  <dc:creator>nbdoe</dc:creator>
  <dc:description/>
  <dc:language>en-US</dc:language>
  <cp:lastModifiedBy>nbdoe</cp:lastModifiedBy>
  <dcterms:modified xsi:type="dcterms:W3CDTF">2007-05-18T18:21:58Z</dcterms:modified>
  <cp:revision>2</cp:revision>
  <dc:subject/>
  <dc:title>       Create A Molecule</dc:title>
</cp:coreProperties>
</file>